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51FC-786D-4928-A061-18C6D3F43A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though Google Docs &amp; Spreadsheets (http://docs.google.com) is currently the recommended online collaborative editing Web site, add the URL of the Web site you have chosen to u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962A-3904-4694-94A6-29CA9EE385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4005-E873-4ECD-B36A-97DE885AB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79E5-D059-45D1-9FB1-52DF61710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0F35-57D8-4DC6-8D83-A458A3060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4019-B8B3-4606-AB5F-9CD170727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C386-2625-42EE-951F-6E47F83F9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FA1B-16BA-4D5D-9FBE-5841D433D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F762-5643-4480-A94B-EA79569AB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40DA-85F2-43F3-97AC-ACE68352F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CCD5-8B18-407F-BF62-C1E59A524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F3DD-1354-4CFD-92F5-910DD4182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5828-25AB-472E-BFC8-FF4E5F78B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D2F9-B209-451C-BF2D-3F58AC391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4CB7-720C-466A-BC37-C14AF0E7EE6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Works_Cited_activitate2/citation_tools.ht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ctivity_4/Online_Surveys.htm" TargetMode="External"/><Relationship Id="rId2" Type="http://schemas.openxmlformats.org/officeDocument/2006/relationships/hyperlink" Target="file:///Activity_4/Online_Surveys.htm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ppt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356000" y="2819520"/>
            <a:ext cx="4457880" cy="222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95480" y="0"/>
            <a:ext cx="5162400" cy="212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920" y="2120760"/>
            <a:ext cx="88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c2e86"/>
                </a:solidFill>
                <a:latin typeface="Verdana"/>
              </a:rPr>
              <a:t>Predarea în societate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4000" spc="-1" strike="noStrike">
                <a:solidFill>
                  <a:srgbClr val="0c2e86"/>
                </a:solidFill>
                <a:latin typeface="Verdana"/>
              </a:rPr>
              <a:t>cunoaşteri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27160" y="5173560"/>
            <a:ext cx="54435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931560" y="561168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33200" y="3459240"/>
            <a:ext cx="4135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2e86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0c2e86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0c2e86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DAE5-822B-41A6-A86D-E902FA1F45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Discutarea aspectelor legale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 utilizarea tehnologiei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2019240"/>
            <a:ext cx="8237520" cy="36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Pas 2: Citarea surselor (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3.05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zu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resursele bibliografic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xemplele din directorul Modulul_3/Activitatea_2/Lucrari citate/Sablon referinte APA)de pe CD-ul cu resurse curricul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alv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formatul de bibliografie , formatul MLA sau formatul AP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folder-ul suport_unit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portofoliul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exempl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u numele Bibliografie sau referi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 (MLA= Modern Language Association; APA= American Psychological Association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 asemenea utiliza un instrument de citare online care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ormata cita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mod automa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formatul MLA sau APA (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citation_tools.ht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reaz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erele deschise pentru urm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arele activ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1BB4-E1D5-4EBD-B7CA-0683B2700D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560" y="169560"/>
            <a:ext cx="89470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3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tilizarea Internetului pentru cercetar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35 de minute) </a:t>
            </a:r>
            <a:br>
              <a:rPr sz="1200"/>
            </a:br>
            <a:endParaRPr b="1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360" y="1219320"/>
            <a:ext cx="873144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1: Localizarea resurselor Internet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3.06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fun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e de experie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pe care o av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, ale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 op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une de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unea 1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Desf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rarea unei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i pe baza de web (page 3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:Utilizarea motoarelor de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tare specializate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Optiunea 3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G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i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 salvarea imaginilor, sune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 filmelor video de pe site-uri web (page 3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2: Evaluarea resurselor web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3.09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e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f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erele pentru evaluarea resurselor web, din modulul3/activitatea3(liste de verificare/evaluarea criti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lor de pe Internet.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cu un partener rezultatele acestei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modul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re i-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ajuta pe elevi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valueze mai critic resursele web pe care le utilizea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( http://lone-eagles.com/search6.htm-&gt; </a:t>
            </a:r>
            <a:r>
              <a:rPr b="1" lang="en-US" sz="1600" spc="-1" strike="noStrike">
                <a:solidFill>
                  <a:srgbClr val="0c2e86"/>
                </a:solidFill>
                <a:latin typeface="Verdana"/>
              </a:rPr>
              <a:t>evaluarea critic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informatiilor de pe Intern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it_plan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35800" y="5014800"/>
          <a:ext cx="1060560" cy="8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5800" y="5014800"/>
                    <a:ext cx="1060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64BF-CFAC-4DF2-9AE5-FCD5F15AE7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4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18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as 1: Analizarea instrumentelor de comunicare prin Internet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(pag 3.10/ 20 minute)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strumente de comunicare bazate pe Interne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E-mail=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o metod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 comunic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 dou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rsoane;poate fi utilizat pentru multiple scopuri  educ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onale(ex: transmiterea prin mail a unei liste de probleme, a temelor..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Chat-uri Online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 =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amere virtuale, unde pe baza unui anumit topic de convers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e se “in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nesc’ persoane cu interese comune(elevii pot utiliza chat-urile pentru a adres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i, pentru a colabora cu colegii…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Mesaje Instant (IM)=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rmit oamen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olic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trimi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mesaje tex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timp real unor persoane de contact preselectate care sunt onlin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respectiv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Studiu/Sondaj de opinie =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oate fi realizat pentru a aduna, analiz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xporta datele de la reponden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5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Verdana"/>
              </a:rPr>
              <a:t>Protocol pentru Internet Voice Over (VoIP) =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o tehnologie de comunicare care permite persoanelor din toata lumea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vorb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 e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timp real sau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efectueze apeluri telefonice prin Internet( ex Skype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ve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tabelul de la pag 3.11 pentru compararea posibil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lor de comunicare onli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Vezi pag B19 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C972-0261-4C08-9503-9EB5703E595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4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omunicarea cu lumea prin Interne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1680" y="1809360"/>
            <a:ext cx="875196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nalizaţi 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strumen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de comunicare pentru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 a le corela cu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unitatea dumneavoastr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lec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ul sau mai multe dintre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e instrumente de comun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entru a-l examin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detaliu pentru o posibi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tiliz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1: E-mail (page 3.1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2: Chat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3: Mesaje Instant (IM) (page 3.13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4: Studiu/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Sondaj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page 3.14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ptiunea 5: Protocol pentru Internet Voice Over (VoIP) (page 3.15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tiche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mar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rice resur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u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utile cu privire la modul de utilizare a acestor instrumen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Toate site-urile web me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on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prezentul modul sunt disponibile  in f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erul”site-uri web pentru modulul 3” din  folder-ul Modulul3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304040" y="155520"/>
          <a:ext cx="1278000" cy="998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4040" y="155520"/>
                    <a:ext cx="12780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962680" y="130320"/>
          <a:ext cx="1163520" cy="90936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62680" y="130320"/>
                    <a:ext cx="11635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68AE-83E9-443F-9877-3DA9C2054C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0160" y="272880"/>
            <a:ext cx="88534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5: Studiul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i prin co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operare prin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web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16/ 15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2015640"/>
            <a:ext cx="823752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vantaje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zavantajele fie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i resurse din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tabelul de l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pag.3.1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poi explor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online site-uri web de colaborare; aceste inform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vor ajuta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lu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onsiderare fel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pu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aceste instrumente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colaborarea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drul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62640" y="3892680"/>
          <a:ext cx="1277640" cy="99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3892680"/>
                    <a:ext cx="12776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254320" y="3995640"/>
          <a:ext cx="1247760" cy="974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3995640"/>
                    <a:ext cx="12477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AFF4-4FDA-495E-891D-8B3BF129FD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e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6: Utilizarea site-ului de colaborare online pentru a  schimb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0/ 20 minute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760" y="1761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i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site-ul web de colaborarea online :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docs.google.com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ectare…………………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hi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gramul online de calcul tabelar :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[]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eschideţi fişa de lucru online şi căutaţi fişa care conţin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intervalul claselor la care pre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-un tabulator din partea inferioa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f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şei de lucr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, unde av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tribuit un 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,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unde v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introduce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l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g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nform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in Planul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Unita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f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de calcul tabelar onli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;(specificaţi numele dumneavoastră pe lini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le care sunt create de ceil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fesori din intervalul claselor la care pre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Lu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onsiderare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e aspect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momentul analize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ni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le lor sunt similare sau complementare acesteia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ctivitatea desfasur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u un alt profesor ar fi benefi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ntru dumneavoast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 masu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e va dezvolt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ideile de unit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componentele portofoliului de unitate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tact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i cu care 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ri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cri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impresi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pe care le av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espre uni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le coleg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loan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trebare/Observ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A820-49D9-4724-B4E1-635EFCFF781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  6: Utilizarea site-ului de colaborare online pentru a face schimburi de ide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1)</a:t>
            </a: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2016000"/>
            <a:ext cx="82375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ur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oar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grupuri mici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d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vedere punctel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rovo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le fie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ui instrument, cum ar putea acestea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jute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ting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obiectivele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putea structura utilizarea instrumentelor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sala de cla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entru a 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 schimb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i propun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?(extin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ideile pentru utilizarea In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net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 pe parcursul activ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i Planificarea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avan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formatii despre construirea unui site de editare in colaborare pentru propriul curs ( pag B3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5538-E14B-4FCC-816F-A2F50C10D0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1574280"/>
            <a:ext cx="83073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Pas  1: Recapitularea modul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860a8"/>
              </a:solidFill>
              <a:latin typeface="Verdana"/>
            </a:endParaRPr>
          </a:p>
          <a:p>
            <a:pPr marL="266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lementele cheie pentru modulul 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ternetul poate fi un instrument puternic de cercetare, colaborare si comunicare cu 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unile pentru o utilizare loia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descriu moduril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materialele protejate de drepturile de autor pot fi folosi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legal de 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re profesor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elev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la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istele  bibliograf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 pot fi creat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diverse formate pentru elevi de toate 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stel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tilizarea profesionis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 strategiilor de cercetare permite elevilor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fesor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g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easc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inform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i utile pe web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d eficien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 varietate de factori  trebuie lu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onsiderar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momentul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 care se stabil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 credibilitat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valoarea unui site web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nstrumentele care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munice cu persoane din to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lumea prin Internet: E-mail, Chat-uri online, mesaje instant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protocol pentru Internet  Voice Over IP;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66760" indent="-266760">
              <a:lnSpc>
                <a:spcPct val="9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log-uri, wiki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documente  online, permit elevilor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colaboreze la proiecte prin partajarea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 oferirea de r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punsuri cu privire la activitatea celorlalte persoan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908000"/>
            <a:ext cx="8534160" cy="385776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98E0-F61E-4D87-9299-D7AD0033D9F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5760" y="1625760"/>
            <a:ext cx="8237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 2: Introducerea experien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i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 b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supra activ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bor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lor inclu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acest mod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blog-ul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erson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schi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blog-ul: </a:t>
            </a:r>
            <a:r>
              <a:rPr b="0" lang="en-US" sz="1600" spc="-1" strike="noStrike">
                <a:solidFill>
                  <a:srgbClr val="ff5c00"/>
                </a:solidFill>
                <a:latin typeface="Verdana"/>
              </a:rPr>
              <a:t>Add UR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asupra mod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re punctul central al acestui modul v-a ajutat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if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 unitatea dumneavoast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Cum pot utiliza Internetul pentru a sprijini procesul meu de predare si procesul de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î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nv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ţ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c2e8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Cum pot s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asigur utlizarea responsabil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ş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i corespunz</a:t>
            </a:r>
            <a:r>
              <a:rPr b="0" i="1" lang="ro-RO" sz="1400" spc="-1" strike="noStrike">
                <a:solidFill>
                  <a:srgbClr val="0c2e86"/>
                </a:solidFill>
                <a:latin typeface="Verdana"/>
              </a:rPr>
              <a:t>ă</a:t>
            </a:r>
            <a:r>
              <a:rPr b="0" i="1" lang="en-US" sz="1400" spc="-1" strike="noStrike">
                <a:solidFill>
                  <a:srgbClr val="0c2e86"/>
                </a:solidFill>
                <a:latin typeface="Verdana"/>
              </a:rPr>
              <a:t>toare a Internetului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and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la mod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cun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pe care le-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ob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t din acest modul vor avea impact asupra procesului de pred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 procesului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registr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rile, elementele chei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le sau probleme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refle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 pag 3.22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668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 7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Reflec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ie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asupra proprie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ţ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 pag 3.22/ 15 minute)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773840" y="147600"/>
          <a:ext cx="1094040" cy="85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3840" y="147600"/>
                    <a:ext cx="1094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B26F-F92E-43CE-A5DF-1DA99445FF9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3200" y="-3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lanif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avans</a:t>
            </a:r>
            <a:br>
              <a:rPr sz="26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Includerea Interne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23/ 5 minute prezent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general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5120" y="113364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al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de brainstorming de la pagina 3.03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not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l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la pagina 3.21 pentru a integra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tabelul de la pagina 3.23, sel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na sau mai multe instrumente Intern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sc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scurt modur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are le 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utiliza pentru a sprijini obiectivele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e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belul ,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link-urile adnotat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instrumentele suplimentare bazate pe web  sunt disponibil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directorul Modulul3/Planif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vans de pe CD-ul cu resurse curricul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) Cum ar putea oricare din urmatoarele tehnologi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) Ce resurs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nstru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uni trebuie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furniz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vilor pentru a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utilizarea Internetului de c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e a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procesul lor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FDB0-75AF-41C4-9FDA-323F5AA78C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5864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4440" y="509220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Predarea în societatea cunoaşter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ul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u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3: Realizarea conexiunil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7440" y="630720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rm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orul modu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85840" y="1069920"/>
          <a:ext cx="8578800" cy="4238640"/>
        </p:xfrm>
        <a:graphic>
          <a:graphicData uri="http://schemas.openxmlformats.org/drawingml/2006/table">
            <a:tbl>
              <a:tblPr/>
              <a:tblGrid>
                <a:gridCol w="2611440"/>
                <a:gridCol w="5967360"/>
              </a:tblGrid>
              <a:tr h="48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e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tioanelor de 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le proiectului din perspectiv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strategiilor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procedurilor de siguran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corespun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oare a Internetului (Politica Utiliz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i Acceptabil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 celui mai bun instrument de prezentare pentru a demonstra ceea ce a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t elevul :realizarea  unei publicatii, prezent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, wiki sau blo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rasarea Instru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unilor procedurale pentru Unitatea d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evaluarea elev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31840" indent="-2318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ile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rii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-ul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30C3-9BA1-46D5-AF0A-F6CEC9ADABC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355840"/>
            <a:ext cx="48513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0C87-EE2B-4F06-B9C1-C66D024F68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920" y="2085840"/>
            <a:ext cx="4145040" cy="24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1: Predarea prin proiect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Invă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t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area bazată pe proiect şi 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design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-ul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nităţii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l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2: 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Proiectarea propriei u</a:t>
            </a:r>
            <a:r>
              <a:rPr b="1" lang="en-US" sz="1400" spc="-1" strike="noStrike">
                <a:solidFill>
                  <a:srgbClr val="0c2e86"/>
                </a:solidFill>
                <a:latin typeface="Verdana"/>
              </a:rPr>
              <a:t>nit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</a:rPr>
              <a:t>ăţi de învăţ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Întrebările generatoare ale unităţii de învăţare şi evaluarea continuă centrată pe elev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55880" y="1371240"/>
            <a:ext cx="404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3480" y="849240"/>
            <a:ext cx="4519440" cy="461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C64E-62EF-4000-B1B8-763DEDE81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nde ne af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lăm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 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7080" y="4118040"/>
            <a:ext cx="8645400" cy="1868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area esential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ate fi utiliz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tehnologia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în mod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 eficient pentru a s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usţin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i evalua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si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 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se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o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asigura o utilizare responsab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i corespunz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28760"/>
          <a:ext cx="8610480" cy="367956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e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mentul central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nternet</a:t>
                      </a: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ul ca </a:t>
                      </a:r>
                      <a:r>
                        <a:rPr b="0" lang="en-US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uport </a:t>
                      </a:r>
                      <a:r>
                        <a:rPr b="0" lang="ro-RO" sz="16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al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crearea unui wiki pentru a schimba idei pentru atingerea standard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(competenţe specifice /obiective de referinţă)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-o clas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centra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gerea legilor copyright-ului( dreptul de autor)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acest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e documente cu luc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si utilizarea resurselor Internet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c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, comunic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labor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olvarea problemelor pentru  dezvoltarea abili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lor secolului XXI 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schimba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tarea asupra propriului proces de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17A3-D443-4F54-A40E-3612E57AE7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ătre ce ne îndreptăm</a:t>
            </a: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7600" y="1881360"/>
            <a:ext cx="4415040" cy="38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4: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Crea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rea unor  produse-model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</a:rPr>
              <a:t>ale învăţă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Produsel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elevilor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(pre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ent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r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publica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</a:rPr>
              <a:t>ţie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</a:rPr>
              <a:t>, wiki, blog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5: Evaluarea proiectelor elevilor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si sumati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6: P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oiectarea pentru succesul elevilor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Sprijinirea elevilor şi stimularea autonomiei în învăţar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7: Facilitare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a procesului predare-învăţare-evaluare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prin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intermediul tehnologiei informaţiei 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 8:Prezentarea portofoliilor unit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ilor de 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1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</a:t>
            </a:r>
            <a:r>
              <a:rPr b="1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tar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Discutarea 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nv</a:t>
            </a:r>
            <a:r>
              <a:rPr b="0" lang="ro-RO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ăţă</a:t>
            </a:r>
            <a:r>
              <a:rPr b="0" lang="en-US" sz="1200" spc="-1" strike="noStrike">
                <a:solidFill>
                  <a:srgbClr val="0c2e86"/>
                </a:solidFill>
                <a:latin typeface="Verdana"/>
                <a:ea typeface="Times New Roman"/>
              </a:rPr>
              <a:t>rii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20FF-C720-4A23-88D6-4075837B24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169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municarea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 perechi 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 schimb de idei asupra  experien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elor pentru a stabili nevoile elevilor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01/ 30 de minute)</a:t>
            </a:r>
            <a:br>
              <a:rPr sz="1600"/>
            </a:b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993680"/>
            <a:ext cx="823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ile d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generare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oiectel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extrageţ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dei pentru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r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 acestor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artaj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prezentarea dumneavoastr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pentru a stabili nevoile elevilor.Furniz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r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punsuri la urm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oarele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i in timp ce 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este scopul general al eval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e dor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de la elev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um 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cercat 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romov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bili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le de 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re de ordin superior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um 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vor ajuta inform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le de evaluare pe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e elevii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planificarea activ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lor viitoare din cadrul un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e rea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i sau idei suplimentare 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 decursul timpului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245360" y="973080"/>
          <a:ext cx="1471680" cy="1046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5360" y="973080"/>
                    <a:ext cx="14716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64F0-870E-421D-BA27-3CB0F9F7B8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6040" y="1681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ractici Pedagogice</a:t>
            </a:r>
            <a:br>
              <a:rPr sz="24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Atingerea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competenţelor specifice/obiectivelor de referinţă în învăţarea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 pe elev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02/ 30 minute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4600" y="1925280"/>
            <a:ext cx="823752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privind aspectele problematic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osibilele sol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 pentru atinge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etenţelor specifice/obiectivelor de referinţ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-o cla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entra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e elev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ecare grup discu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 singu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ebar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pot 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m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sigur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levii ating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etenţele specifice/ obiectivele de referinţă la nivel optim din punct de vedere calitativ şi cantitativ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zul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 care elevii se ocup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propriul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c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, cum putem noi fi siguri 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v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eea ce este important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ot să mă asigur că în cadrul echipei, fiecare elev îşi asumă sarcinile de lucru cu responsabilita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 persoa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in grup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e va conecta pe adresa site-ului web wiki(URL)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v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registra punctul de vedere al grupului respectiv: </a:t>
            </a: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 URL www.romaniaessentialsv10.wik.is</a:t>
            </a: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aginile celorlalte echip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g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elemen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lista lor de sol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E9F0-D3F2-4DD4-AEF5-433969EBDD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Identificarea şi selectarea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abilit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ilor necesare 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n secolul XXI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pag 3.03/ 15 minute/ abili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le secolului XXI- pag 1.02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1880" y="2016000"/>
            <a:ext cx="823752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modalitaţ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e includere a anumitor abili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ale secolului XX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unitatea dvs.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document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comunicare, colaborar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rezolvare a problemelo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s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ideile pentru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eb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ile de la pagina  3.03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tr-un grup mic 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d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-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um 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utea include Internetul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lasa dumneavoast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pentru 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bu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procesul d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ăţ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e al elevilor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 ceea ce pri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ocumentarea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, comunicarea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colaborarea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051440" y="4734000"/>
          <a:ext cx="1257120" cy="96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4734000"/>
                    <a:ext cx="12571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098800" y="4724280"/>
          <a:ext cx="1247760" cy="9748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8800" y="4724280"/>
                    <a:ext cx="12477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F41E-B58F-4C32-BEA4-76CA3D5E6C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4786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3: Realizarea conexiunilor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atea 2</a:t>
            </a:r>
            <a:br>
              <a:rPr sz="2600"/>
            </a:b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Discutarea aspectelor legale </a:t>
            </a:r>
            <a:r>
              <a:rPr b="1" lang="ro-RO" sz="2400" spc="-1" strike="noStrike">
                <a:solidFill>
                  <a:srgbClr val="0860a8"/>
                </a:solidFill>
                <a:latin typeface="Verdana"/>
              </a:rPr>
              <a:t>şi etice cu privire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la utilizarea tehnologiei (40 minute)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280" y="1972800"/>
            <a:ext cx="88632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Pas 1: Investigarea dreptului de autor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3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arcurg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comple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testul (6 itemi) privind drepturile de autor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c2e86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Vizualiza</a:t>
            </a:r>
            <a:r>
              <a:rPr b="0" lang="ro-RO" sz="2000" spc="-1" strike="noStrike">
                <a:solidFill>
                  <a:srgbClr val="0c2e86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c2e86"/>
                </a:solidFill>
                <a:latin typeface="Verdana"/>
              </a:rPr>
              <a:t>i prezentare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 “Haosul Drepturilor de autor”/ ”Copyright Chaos”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ce impact vor avea legea drepturilor de autor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urm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oarele instru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uni de utilizare loial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supra clasei dvs.( Specific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ce strategii v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folosi dvs. pentru a 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sigura 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elevii dvs.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leg drepturile de autor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ş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utilizarea lor loial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Discuta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proceduri speciale de asisten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pe care le pute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 implementa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 clasa dvs. pentru a v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sigura ca instruc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ţ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unile sunt respectat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38560" y="141120"/>
          <a:ext cx="1133640" cy="885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141120"/>
                    <a:ext cx="1133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505560" y="146160"/>
          <a:ext cx="1216080" cy="94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5560" y="146160"/>
                    <a:ext cx="1216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896240" y="173160"/>
          <a:ext cx="1052640" cy="766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96240" y="173160"/>
                    <a:ext cx="10526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B6B5-DEC4-42FF-90FD-EE60F02725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Colegiul National</cp:lastModifiedBy>
  <cp:lastPrinted>2006-11-14T00:45:04Z</cp:lastPrinted>
  <dcterms:modified xsi:type="dcterms:W3CDTF">2007-08-27T05:14:49Z</dcterms:modified>
  <cp:revision>232</cp:revision>
  <dc:subject/>
  <dc:title>Presentation Title Goes Here</dc:title>
</cp:coreProperties>
</file>